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4.wmf" ContentType="image/x-wmf"/>
  <Override PartName="/ppt/media/image6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3CF-2D83-4242-93AE-484A5E1B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02F-5113-4149-AF20-3D4ED6A3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7B9-49F3-4F4B-9D07-BEB6C074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1F9-7079-45FD-AEEF-0B686742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263-D7E7-4C61-B741-E3813417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1C4-66D4-4550-BBA4-7285C0CD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506-8115-43E2-8078-9E68A2C1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B9E-82CA-4F23-8C03-B7C94265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D86-E625-4170-B2A6-F7402755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663-0A70-4902-9343-2F373A90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ACB-0E32-411F-AC55-752A50B9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D7E-B633-484A-948A-8B504430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BBF0-3D85-4107-9AA5-3D4DCEB2D7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基本有用的计量经济学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第三章 随机化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1CE9-2FE7-4FFE-8709-AA769D4600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典随机化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伯努利实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Bernoulli tri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0" r="0" b="34728"/>
          <a:stretch/>
        </p:blipFill>
        <p:spPr>
          <a:xfrm>
            <a:off x="681120" y="2343240"/>
            <a:ext cx="8199360" cy="1801800"/>
          </a:xfrm>
          <a:prstGeom prst="rect">
            <a:avLst/>
          </a:prstGeom>
          <a:ln w="0">
            <a:noFill/>
          </a:ln>
        </p:spPr>
      </p:pic>
      <p:pic>
        <p:nvPicPr>
          <p:cNvPr id="83" name="Object 5" descr=""/>
          <p:cNvPicPr/>
          <p:nvPr/>
        </p:nvPicPr>
        <p:blipFill>
          <a:blip r:embed="rId2"/>
          <a:stretch/>
        </p:blipFill>
        <p:spPr>
          <a:xfrm>
            <a:off x="2919240" y="2852640"/>
            <a:ext cx="4461120" cy="7318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6" descr=""/>
          <p:cNvPicPr/>
          <p:nvPr/>
        </p:nvPicPr>
        <p:blipFill>
          <a:blip r:embed="rId3"/>
          <a:stretch/>
        </p:blipFill>
        <p:spPr>
          <a:xfrm>
            <a:off x="2919240" y="4416480"/>
            <a:ext cx="4716720" cy="1009440"/>
          </a:xfrm>
          <a:prstGeom prst="rect">
            <a:avLst/>
          </a:prstGeom>
          <a:ln w="0">
            <a:noFill/>
          </a:ln>
        </p:spPr>
      </p:pic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74D4-1A40-4767-B2CC-17737B934F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典随机化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全随机化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定固定数目的个体在干预组，个体分配概率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配向量数缩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ject 4" descr=""/>
          <p:cNvPicPr/>
          <p:nvPr/>
        </p:nvPicPr>
        <p:blipFill>
          <a:blip r:embed="rId1"/>
          <a:stretch/>
        </p:blipFill>
        <p:spPr>
          <a:xfrm>
            <a:off x="2195640" y="4100400"/>
            <a:ext cx="3238200" cy="870120"/>
          </a:xfrm>
          <a:prstGeom prst="rect">
            <a:avLst/>
          </a:prstGeom>
          <a:ln w="0">
            <a:noFill/>
          </a:ln>
        </p:spPr>
      </p:pic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E181-7AD3-48A8-8A78-3F9EB68670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典随机化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层随机化实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Stratified randomized experiments, randomized bloc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时某些因素对结果有重要影响，根据该因素，首先将总体分组（分层），然后再在层内进行完全随机化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9C24-2547-4828-846C-4F60125DCD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典随机化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配对随机化实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Paired randomized experi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层随机实验的特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F458-CE40-4651-80BB-2ED7C7AF3C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典随机化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50F7-0D1B-44FA-A1D1-0D941BEB02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392040" y="1992240"/>
            <a:ext cx="835992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机化实验的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53C2-349D-4B69-A3FF-6BACCCCD4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内容占位符 4" descr=""/>
          <p:cNvPicPr/>
          <p:nvPr/>
        </p:nvPicPr>
        <p:blipFill>
          <a:blip r:embed="rId1"/>
          <a:stretch/>
        </p:blipFill>
        <p:spPr>
          <a:xfrm>
            <a:off x="457200" y="1866960"/>
            <a:ext cx="8229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机化实验的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9F7F-1EE7-458A-8439-2C849189F2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6" descr=""/>
          <p:cNvPicPr/>
          <p:nvPr/>
        </p:nvPicPr>
        <p:blipFill>
          <a:blip r:embed="rId1"/>
          <a:stretch/>
        </p:blipFill>
        <p:spPr>
          <a:xfrm>
            <a:off x="328680" y="1816200"/>
            <a:ext cx="83581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机化实验的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ECE6-F482-4BE1-AB71-FFB9C39CB4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内容占位符 4" descr=""/>
          <p:cNvPicPr/>
          <p:nvPr/>
        </p:nvPicPr>
        <p:blipFill>
          <a:blip r:embed="rId1"/>
          <a:stretch/>
        </p:blipFill>
        <p:spPr>
          <a:xfrm>
            <a:off x="365040" y="1417680"/>
            <a:ext cx="8229600" cy="33987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5" descr=""/>
          <p:cNvPicPr/>
          <p:nvPr/>
        </p:nvPicPr>
        <p:blipFill>
          <a:blip r:embed="rId2"/>
          <a:stretch/>
        </p:blipFill>
        <p:spPr>
          <a:xfrm>
            <a:off x="365040" y="5041800"/>
            <a:ext cx="6305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机化实验的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CED9-4282-4353-9D09-CF416384D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内容占位符 4" descr=""/>
          <p:cNvPicPr/>
          <p:nvPr/>
        </p:nvPicPr>
        <p:blipFill>
          <a:blip r:embed="rId1"/>
          <a:stretch/>
        </p:blipFill>
        <p:spPr>
          <a:xfrm>
            <a:off x="371520" y="1417680"/>
            <a:ext cx="8229600" cy="177012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" descr=""/>
          <p:cNvPicPr/>
          <p:nvPr/>
        </p:nvPicPr>
        <p:blipFill>
          <a:blip r:embed="rId2"/>
          <a:stretch/>
        </p:blipFill>
        <p:spPr>
          <a:xfrm>
            <a:off x="28440" y="3502080"/>
            <a:ext cx="9087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层随机化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6AA9-A780-49C6-8B75-A5176208AF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内容占位符 4" descr=""/>
          <p:cNvPicPr/>
          <p:nvPr/>
        </p:nvPicPr>
        <p:blipFill>
          <a:blip r:embed="rId1"/>
          <a:stretch/>
        </p:blipFill>
        <p:spPr>
          <a:xfrm>
            <a:off x="249120" y="608040"/>
            <a:ext cx="8229600" cy="809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" descr=""/>
          <p:cNvPicPr/>
          <p:nvPr/>
        </p:nvPicPr>
        <p:blipFill>
          <a:blip r:embed="rId2"/>
          <a:stretch/>
        </p:blipFill>
        <p:spPr>
          <a:xfrm>
            <a:off x="47520" y="1417680"/>
            <a:ext cx="90489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机化实验的提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yman(1923, 1990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利用随机化实验中提出了潜在结果的表示方法，但他没有意思到随机实验对识别因果效应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er(1925, 1935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先提出了随机化实验是因果推断的基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ranomization as the "reasoned basis" for causal inference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AA98-FD4D-4770-A041-3DDB8102E3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9EB8-5865-4859-AF17-05DBC93DA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内容占位符 4" descr=""/>
          <p:cNvPicPr/>
          <p:nvPr/>
        </p:nvPicPr>
        <p:blipFill>
          <a:blip r:embed="rId1"/>
          <a:stretch/>
        </p:blipFill>
        <p:spPr>
          <a:xfrm>
            <a:off x="1252440" y="274680"/>
            <a:ext cx="6124680" cy="23716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5" descr=""/>
          <p:cNvPicPr/>
          <p:nvPr/>
        </p:nvPicPr>
        <p:blipFill>
          <a:blip r:embed="rId2"/>
          <a:stretch/>
        </p:blipFill>
        <p:spPr>
          <a:xfrm>
            <a:off x="322200" y="2908440"/>
            <a:ext cx="8723520" cy="12855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6" descr=""/>
          <p:cNvPicPr/>
          <p:nvPr/>
        </p:nvPicPr>
        <p:blipFill>
          <a:blip r:embed="rId3"/>
          <a:stretch/>
        </p:blipFill>
        <p:spPr>
          <a:xfrm>
            <a:off x="95400" y="4194000"/>
            <a:ext cx="8953200" cy="13147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7" descr=""/>
          <p:cNvPicPr/>
          <p:nvPr/>
        </p:nvPicPr>
        <p:blipFill>
          <a:blip r:embed="rId4"/>
          <a:stretch/>
        </p:blipFill>
        <p:spPr>
          <a:xfrm>
            <a:off x="95400" y="5759280"/>
            <a:ext cx="44290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EBA3-F945-4261-8BFD-4B243D442A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内容占位符 4" descr=""/>
          <p:cNvPicPr/>
          <p:nvPr/>
        </p:nvPicPr>
        <p:blipFill>
          <a:blip r:embed="rId1"/>
          <a:stretch/>
        </p:blipFill>
        <p:spPr>
          <a:xfrm>
            <a:off x="309600" y="1650960"/>
            <a:ext cx="8229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8932-C398-46B0-AFB7-46D75F90CC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内容占位符 4" descr=""/>
          <p:cNvPicPr/>
          <p:nvPr/>
        </p:nvPicPr>
        <p:blipFill>
          <a:blip r:embed="rId1"/>
          <a:stretch/>
        </p:blipFill>
        <p:spPr>
          <a:xfrm>
            <a:off x="298440" y="1295280"/>
            <a:ext cx="82296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子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SW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据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C873-0CD9-4EF8-814F-5DA0739ADB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内容占位符 4" descr=""/>
          <p:cNvPicPr/>
          <p:nvPr/>
        </p:nvPicPr>
        <p:blipFill>
          <a:blip r:embed="rId1"/>
          <a:stretch/>
        </p:blipFill>
        <p:spPr>
          <a:xfrm>
            <a:off x="4392720" y="1855800"/>
            <a:ext cx="4105080" cy="2543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5"/>
          <p:cNvSpPr/>
          <p:nvPr/>
        </p:nvSpPr>
        <p:spPr>
          <a:xfrm>
            <a:off x="566640" y="1101600"/>
            <a:ext cx="3490920" cy="83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NSW_DW.d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treat is treatment indicator, =1 treated, =0 un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 "F:\Mybooks\Causal inference\data\nsw_dw.dta",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Calculate \tau^{dif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u re78 if treat==0,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cal m0 = r(me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cal s0=r(s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cal Nc=r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u re78 if treat==1,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cal m1 = r(me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cal s1=r(s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cal Nt=r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cal ate = `m1' - `m0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cal var = `s0'^2/`Nc'+`s1'^2/`Nt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 in green "ATE = " `ate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 in green "S.E.= " sqrt(`var'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Simple regr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g re78 treat, vce(robu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Add covariates: age education black married  re74 re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g re78 treat age education black  married  re74 re75, vce(robu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Add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cal inter "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cal covariates "age education black  married  re74 re7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each var of local covariates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u `var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gen m`var'=`var'-r(me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cal inter ="`inter'"+" treat#c.m`var'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g re78 treat `covariates' `inter', vce(robu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女士品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女士：茶加入奶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奶加入茶，口味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出随机化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杯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杯茶入奶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杯奶入茶，随机排序，检验是否真的有鉴别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问的问题是：如果某女士没有任何鉴别力，她猜对的可能性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配向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= 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/70 = 0.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59BF-0E5A-4E42-945E-256640101F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女士品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实验的基本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体不要求是同质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求个体是总体的随机样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得到有效的因果效应，必须保证干预分配的随机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概率进入实验仅通过干预的随机分配，由实验者所控制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7454-D339-47FA-8009-834CDE8F95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无因果效应检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回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女士品茶的例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假设某女士没有鉴别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考虑分配机制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杯，随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杯先加奶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杯先加茶，共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种可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验统计量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该女士说对的杯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假设该女士总是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(1,1,0,0,0,1,1,0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值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[t&gt;=8] = 1/70 = 0.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0BF0-24F3-4066-87F2-B836259464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无因果效应检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至少猜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杯呢？（不可能猜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[t&gt;=6] = (16+1)/70 = 0.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键点值得重复强调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robability enters the calculation only through the random assignment of trea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needed probability distribution is known, not assu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resulting significance level does not depend upon assumptions of any k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44B1-4722-4DB8-87F2-BF35662F0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化实验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45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干预状态分配的随机化，使干预状态与潜在结果是独立的，即   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45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随机化分配消除了观测研究中的选择性偏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化实验中，两组结果的比较即是因果效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45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此时，相关关系就是因果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45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简单回归系数就是因果效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而，随机化实验是因果推断的黄金标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38915" descr=""/>
          <p:cNvPicPr/>
          <p:nvPr/>
        </p:nvPicPr>
        <p:blipFill>
          <a:blip r:embed="rId1"/>
          <a:stretch/>
        </p:blipFill>
        <p:spPr>
          <a:xfrm>
            <a:off x="2803680" y="2425680"/>
            <a:ext cx="1923840" cy="352440"/>
          </a:xfrm>
          <a:prstGeom prst="rect">
            <a:avLst/>
          </a:prstGeom>
          <a:ln w="0">
            <a:noFill/>
          </a:ln>
        </p:spPr>
      </p:pic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1504-F554-4805-9CB3-031B651075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机化实验的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控制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化实验保证数据缺失是随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化可以保证干预组和控制组个体观测特征相对平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化给我们足够的理由相信未观测特征也是平衡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27CF-52DF-490F-A0F9-2B039FCD7F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3"/>
          <p:cNvGrpSpPr/>
          <p:nvPr/>
        </p:nvGrpSpPr>
        <p:grpSpPr>
          <a:xfrm>
            <a:off x="425520" y="1486080"/>
            <a:ext cx="8291520" cy="3955680"/>
            <a:chOff x="425520" y="1486080"/>
            <a:chExt cx="8291520" cy="3955680"/>
          </a:xfrm>
        </p:grpSpPr>
        <p:pic>
          <p:nvPicPr>
            <p:cNvPr id="51" name="图片 1" descr=""/>
            <p:cNvPicPr/>
            <p:nvPr/>
          </p:nvPicPr>
          <p:blipFill>
            <a:blip r:embed="rId1"/>
            <a:stretch/>
          </p:blipFill>
          <p:spPr>
            <a:xfrm>
              <a:off x="444600" y="1486080"/>
              <a:ext cx="8253360" cy="18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2" descr=""/>
            <p:cNvPicPr/>
            <p:nvPr/>
          </p:nvPicPr>
          <p:blipFill>
            <a:blip r:embed="rId2"/>
            <a:stretch/>
          </p:blipFill>
          <p:spPr>
            <a:xfrm>
              <a:off x="425520" y="3360960"/>
              <a:ext cx="8291520" cy="208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0" t="8478" r="0" b="0"/>
          <a:stretch/>
        </p:blipFill>
        <p:spPr>
          <a:xfrm>
            <a:off x="0" y="1630440"/>
            <a:ext cx="9144000" cy="3963960"/>
          </a:xfrm>
          <a:prstGeom prst="rect">
            <a:avLst/>
          </a:prstGeom>
          <a:ln w="0">
            <a:noFill/>
          </a:ln>
        </p:spPr>
      </p:pic>
      <p:sp>
        <p:nvSpPr>
          <p:cNvPr id="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1396-56F6-4D85-B88F-5A1FF35E2E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" descr=""/>
          <p:cNvPicPr/>
          <p:nvPr/>
        </p:nvPicPr>
        <p:blipFill>
          <a:blip r:embed="rId2"/>
          <a:stretch/>
        </p:blipFill>
        <p:spPr>
          <a:xfrm>
            <a:off x="2139840" y="1150920"/>
            <a:ext cx="4543560" cy="47952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4"/>
          <p:cNvGrpSpPr/>
          <p:nvPr/>
        </p:nvGrpSpPr>
        <p:grpSpPr>
          <a:xfrm>
            <a:off x="0" y="1120680"/>
            <a:ext cx="9144000" cy="4443480"/>
            <a:chOff x="0" y="1120680"/>
            <a:chExt cx="9144000" cy="4443480"/>
          </a:xfrm>
        </p:grpSpPr>
        <p:pic>
          <p:nvPicPr>
            <p:cNvPr id="59" name="Picture 4" descr=""/>
            <p:cNvPicPr/>
            <p:nvPr/>
          </p:nvPicPr>
          <p:blipFill>
            <a:blip r:embed="rId3"/>
            <a:srcRect l="0" t="8478" r="0" b="0"/>
            <a:stretch/>
          </p:blipFill>
          <p:spPr>
            <a:xfrm>
              <a:off x="0" y="1600560"/>
              <a:ext cx="9144000" cy="39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3" descr=""/>
            <p:cNvPicPr/>
            <p:nvPr/>
          </p:nvPicPr>
          <p:blipFill>
            <a:blip r:embed="rId4"/>
            <a:stretch/>
          </p:blipFill>
          <p:spPr>
            <a:xfrm>
              <a:off x="2139120" y="1120680"/>
              <a:ext cx="4543560" cy="47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3160-D935-4779-8BC3-5F2CDAE72E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2" descr=""/>
          <p:cNvPicPr/>
          <p:nvPr/>
        </p:nvPicPr>
        <p:blipFill>
          <a:blip r:embed="rId1"/>
          <a:stretch/>
        </p:blipFill>
        <p:spPr>
          <a:xfrm>
            <a:off x="466560" y="1317600"/>
            <a:ext cx="82202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2203-D461-4E18-A4C2-7D3EA7943E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3505320" y="2938320"/>
            <a:ext cx="45687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随机分配个体到干预组和控制组，意味着，我们可以随机的看到他们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由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随机取值，使得我们看到的干预组的观测结果相当于来自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一个随机子样本。同样的，控制组的观测结果也是来自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随机子样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5" descr=""/>
          <p:cNvPicPr/>
          <p:nvPr/>
        </p:nvPicPr>
        <p:blipFill>
          <a:blip r:embed="rId1"/>
          <a:stretch/>
        </p:blipFill>
        <p:spPr>
          <a:xfrm>
            <a:off x="4148280" y="4691160"/>
            <a:ext cx="2989080" cy="13906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"/>
          <p:cNvPicPr/>
          <p:nvPr/>
        </p:nvPicPr>
        <p:blipFill>
          <a:blip r:embed="rId2"/>
          <a:stretch/>
        </p:blipFill>
        <p:spPr>
          <a:xfrm>
            <a:off x="3567240" y="6018120"/>
            <a:ext cx="3732120" cy="809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" descr=""/>
          <p:cNvPicPr/>
          <p:nvPr/>
        </p:nvPicPr>
        <p:blipFill>
          <a:blip r:embed="rId3"/>
          <a:stretch/>
        </p:blipFill>
        <p:spPr>
          <a:xfrm>
            <a:off x="304920" y="3125880"/>
            <a:ext cx="3004920" cy="31226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" descr=""/>
          <p:cNvPicPr/>
          <p:nvPr/>
        </p:nvPicPr>
        <p:blipFill>
          <a:blip r:embed="rId4"/>
          <a:stretch/>
        </p:blipFill>
        <p:spPr>
          <a:xfrm>
            <a:off x="136440" y="538200"/>
            <a:ext cx="88711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机实验与选择偏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完全随机化实验中，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D761-A2E5-47B2-AA19-61FEEED653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6" descr=""/>
          <p:cNvPicPr/>
          <p:nvPr/>
        </p:nvPicPr>
        <p:blipFill>
          <a:blip r:embed="rId1"/>
          <a:stretch/>
        </p:blipFill>
        <p:spPr>
          <a:xfrm>
            <a:off x="3624120" y="1600200"/>
            <a:ext cx="1505160" cy="4096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7" descr=""/>
          <p:cNvPicPr/>
          <p:nvPr/>
        </p:nvPicPr>
        <p:blipFill>
          <a:blip r:embed="rId2"/>
          <a:stretch/>
        </p:blipFill>
        <p:spPr>
          <a:xfrm>
            <a:off x="1374840" y="2009880"/>
            <a:ext cx="3333600" cy="9046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8" descr=""/>
          <p:cNvPicPr/>
          <p:nvPr/>
        </p:nvPicPr>
        <p:blipFill>
          <a:blip r:embed="rId3"/>
          <a:stretch/>
        </p:blipFill>
        <p:spPr>
          <a:xfrm>
            <a:off x="592200" y="2914560"/>
            <a:ext cx="81993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典随机化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配机制是由研究者控制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典随机化实验可以分成四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伯努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完全随机化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层随机化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配对随机化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8510-6E6E-4985-971F-B646F2867E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Xiliang Zhao</dc:creator>
  <dc:description/>
  <dc:language>en-US</dc:language>
  <cp:lastModifiedBy>Xiliang Zhao</cp:lastModifiedBy>
  <dcterms:modified xsi:type="dcterms:W3CDTF">2017-11-05T14:16:43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</Properties>
</file>