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32.png" ContentType="image/png"/>
  <Override PartName="/ppt/media/image15.wmf" ContentType="image/x-wmf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13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8.png" ContentType="image/png"/>
  <Override PartName="/ppt/media/image1.wmf" ContentType="image/x-wmf"/>
  <Override PartName="/ppt/media/image29.png" ContentType="image/png"/>
  <Override PartName="/ppt/media/image2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770-158A-43A9-808B-06EF4021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C1F-C6EC-40ED-8BDB-1EDF8617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E51-9358-4EF4-89C9-51618565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94A-7536-451A-90EE-B9A21208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37F-42F0-41C9-8041-629A2E69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C9D-F12D-46B7-BC2A-3704CFC6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B3A-6B92-43E0-BE4D-DAF7EEE0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E61-6C22-4A2F-98D6-B2B613C0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0B4-1923-4909-956E-B23B76B6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DF6-A176-41DB-8817-D5AD3887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E3F-547A-405D-B39E-6DC68DEB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068-886D-406A-92FA-3C82897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A1C8-E673-49BA-BC74-4192759F39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基本有用的计量经济学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第四章 因果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图和边际独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回到前面打火机的例子，因为抽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带打火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得肺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共同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假设研究者将研究限制在非吸烟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时，知道他不带打火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对预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他得肺癌的风险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没有帮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尽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边际上相关，但以共同原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条件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将是独立的。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[Y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|D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1, L] = E[Y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|D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0, L]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共同原因为条件，可以阻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之间的相关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568840" y="2019240"/>
            <a:ext cx="2751120" cy="1122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689360" y="3686040"/>
            <a:ext cx="81936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图和边际独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再回到共同结果的例子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因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吸烟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脏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共同结果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llid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之间不相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题：如果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条件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关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少数民族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高考分数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大学录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大学录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条件，可以发现越是少数民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高考分数倾向于更低，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负相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共同原因为条件，将打开路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→L←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107040" y="2089080"/>
            <a:ext cx="2579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图和边际独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共同结果的结果（后代）为条件，同样会打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相关路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676600" y="2900520"/>
            <a:ext cx="379080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图和边际独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0" t="80808" r="0" b="0"/>
          <a:stretch/>
        </p:blipFill>
        <p:spPr>
          <a:xfrm>
            <a:off x="220680" y="5308560"/>
            <a:ext cx="8702640" cy="11714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457200" y="1549440"/>
            <a:ext cx="86137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后门标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后门路径定义为指向原因变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的一条非因果路径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D←C→Y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是一条后门路径，以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为条件可以阻断该后门路径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rcRect l="0" t="0" r="0" b="17826"/>
          <a:stretch/>
        </p:blipFill>
        <p:spPr>
          <a:xfrm>
            <a:off x="2049480" y="2222640"/>
            <a:ext cx="441000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后门标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类似于前图，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未观测变量。我们通过用滞后结果变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控制未观测因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0" b="13718"/>
          <a:stretch/>
        </p:blipFill>
        <p:spPr>
          <a:xfrm>
            <a:off x="2289240" y="3187800"/>
            <a:ext cx="470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偏差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体中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AT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= E[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1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- 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0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|D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= 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测差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i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= E[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|D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1] - E[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|D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0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if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等于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AT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则存在选择偏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选择偏差可能由于两种因果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共同原因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mmon caus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共同原因，相关关系不体现因果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共同结果为条件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mmon effect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样本选择偏差（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mple selection bia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混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onfoun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混杂是由于干预变量和结果变量有共同原因造成的偏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条路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条是因果关系：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→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另一条没有因果关系：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←L→Y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后门路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928960" y="2793960"/>
            <a:ext cx="28288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混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onfoun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济学中的例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82600" y="3201840"/>
            <a:ext cx="8751960" cy="363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546880" y="1600200"/>
            <a:ext cx="22446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混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onfoun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9240" y="1600200"/>
            <a:ext cx="8658000" cy="1028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57200" y="2629080"/>
            <a:ext cx="83422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关系和相关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果关系是潜在结果之间的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关关系是观测结果之间的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ject 4" descr=""/>
          <p:cNvPicPr/>
          <p:nvPr/>
        </p:nvPicPr>
        <p:blipFill>
          <a:blip r:embed="rId1"/>
          <a:stretch/>
        </p:blipFill>
        <p:spPr>
          <a:xfrm>
            <a:off x="4605480" y="1684440"/>
            <a:ext cx="1538280" cy="277560"/>
          </a:xfrm>
          <a:prstGeom prst="rect">
            <a:avLst/>
          </a:prstGeom>
          <a:ln w="0">
            <a:noFill/>
          </a:ln>
        </p:spPr>
      </p:pic>
      <p:pic>
        <p:nvPicPr>
          <p:cNvPr id="46" name="Object 5" descr=""/>
          <p:cNvPicPr/>
          <p:nvPr/>
        </p:nvPicPr>
        <p:blipFill>
          <a:blip r:embed="rId2"/>
          <a:stretch/>
        </p:blipFill>
        <p:spPr>
          <a:xfrm>
            <a:off x="4605480" y="2430360"/>
            <a:ext cx="2925720" cy="27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1490760" y="2927520"/>
            <a:ext cx="5400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混杂和因果效应识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如果识别干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对结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因果效应？分析中如何消除混杂因素的影响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后门标准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间所有的后门路径被阻断了，那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因果效应可以识别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因而，两种情况下因果效应可以识别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没有共同原因，没有后门，没有混杂。比如完全随机化实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有共同原因，但有足够的观测变量阻断后门路径。分层随机化实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后门标准回答下列三个问题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）混杂存在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）混杂可以消除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）为消除混杂，需要什么变量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样本选择偏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ample selection bi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  Heckman (1979) labor supply Y and wages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  Angrist and Pischke (2009) go to hospital D and health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  R&amp;D activity (D) and productivity 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Sample selection bias can be defined as the bias resulting from </a:t>
            </a:r>
            <a:r>
              <a:rPr b="0" lang="zh-CN" sz="2700" spc="-1" strike="noStrike" u="sng">
                <a:solidFill>
                  <a:srgbClr val="000000"/>
                </a:solidFill>
                <a:uFillTx/>
                <a:latin typeface="Arial"/>
              </a:rPr>
              <a:t>conditioning on the common effect ot two variables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, one of which is either the treatment or associated with the treatment, and the other is either the outcome or associated with the outcome (Hernan et al., 2004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906480" y="3094200"/>
            <a:ext cx="2666880" cy="1609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316400" y="2960640"/>
            <a:ext cx="39988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样本选择偏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ample selection bi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947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内容占位符 4" descr=""/>
          <p:cNvPicPr/>
          <p:nvPr/>
        </p:nvPicPr>
        <p:blipFill>
          <a:blip r:embed="rId1"/>
          <a:stretch/>
        </p:blipFill>
        <p:spPr>
          <a:xfrm>
            <a:off x="612720" y="865080"/>
            <a:ext cx="7689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混杂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性样本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68400" y="1112760"/>
            <a:ext cx="86947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图的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果图模型是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Judea Pearl (1995, 2000,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果图比潜在结果更容易、更直观。但因果图方法和潜在结果框架事实上是密切联系的，是相通的，每一个因果图后面都对应一个潜在结果模型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本构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点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nodes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, D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代表随机变量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边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edges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（箭头）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从一个变量指向另一个变量，表示一个变量对另一个变量，至少对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个个体有直接因果效应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如果两变量间没有箭头，表示总体上任何个体，两个变量之间没有直接的因果影响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时间上，一般是左边在前，右边在后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并且没有自身之间的循环路径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称为有向无环图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(directed acyclic graph, DAG)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2600280" y="2476440"/>
            <a:ext cx="42372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图的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假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随机化分配的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同原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common cause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不包括在因果图中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下图可以代表某个观测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901960" y="2260440"/>
            <a:ext cx="1447920" cy="419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901960" y="4181400"/>
            <a:ext cx="22748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图和边际独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假设我们知道，培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事后收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影响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图表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随机化分配的，是无条件分配的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因果影响，从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另一个例子，假设我们知道带打火机的行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得肺癌风险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没有因果关系，而抽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带打火机行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因果关系，抽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得肺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因果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图反映的是变量间的因果关系，但也蕴含着相关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2813040" y="1882800"/>
            <a:ext cx="2406600" cy="7398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" descr=""/>
          <p:cNvPicPr/>
          <p:nvPr/>
        </p:nvPicPr>
        <p:blipFill>
          <a:blip r:embed="rId2"/>
          <a:stretch/>
        </p:blipFill>
        <p:spPr>
          <a:xfrm>
            <a:off x="2494080" y="3917880"/>
            <a:ext cx="3779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图和边际独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随机化实验中，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因果影响，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[Y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1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] ≠ E[Y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0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从而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[Y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|D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= 1] ≠ E[Y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|D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= 0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即因果关系意味着相关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果关系是单向的，而相关关系是对称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图中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因果影响，从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[Y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1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[Y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0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那么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是否相关呢？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个人带打火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抽烟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的可能性上升，抽烟则会增加肺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Y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可能性，从而出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果关系表现出相关性，有共同原因会表现出相关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433680" y="2933640"/>
            <a:ext cx="227484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2666880" y="4172040"/>
            <a:ext cx="281016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图和边际独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看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例子，假设某基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吸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因果影响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[Y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1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] ≠ E[Y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0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吸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均有一共同结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common effect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心脏病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另一个例子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少数民族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习能力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考上大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一个共同结果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llid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否相关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没有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原因，对我们了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之间是否相关没有任何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[Y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|D=1]=E[Y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|D=0], 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独立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906640" y="2671920"/>
            <a:ext cx="272736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图和边际独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变量（边际上）相关，如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一个是另一个的原因，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它们具有共同的原因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(common cause)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变量（边际上）独立如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它们具有共同结果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(common effe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877000" y="2451240"/>
            <a:ext cx="28098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因果图和边际独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回到培训与事后收入的因果关系，从而两者相关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现在我们假设获得了更加详细的机制信息，即培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提高个体的人力资本形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最终导致收入的增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层内（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条件）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否相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假设收集了关于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的大量数据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一旦控制了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，无论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，收入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仅依赖于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，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即一旦控制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是独立的，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称为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mediator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中间变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中间变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条件，阻断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关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503520" y="2101680"/>
            <a:ext cx="1447920" cy="419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3075120" y="3403440"/>
            <a:ext cx="3043080" cy="64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6740640" y="4800600"/>
            <a:ext cx="24001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740120" y="5153040"/>
            <a:ext cx="819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Xiliang Zhao</dc:creator>
  <dc:description/>
  <dc:language>en-US</dc:language>
  <cp:lastModifiedBy>Xiliang Zhao</cp:lastModifiedBy>
  <dcterms:modified xsi:type="dcterms:W3CDTF">2017-11-05T14:20:3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</Properties>
</file>